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118-7616-4F06-9774-4E091B38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D4C-37BB-4B31-A5F8-9E1526E5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583-8193-45EB-B1E3-172029A1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B6D-F900-4F70-9AF2-6A37C75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326E-7F9F-460D-911C-2BA35E0F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D64F-F0FC-4141-84DA-8CADBDC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D85-C993-4627-9A0D-F61FCC66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1DB-C1EB-4951-9606-BFCF3502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46E9-9B84-442F-8AC2-54A43B91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730-032F-4B6A-BB4D-DF8C6D0E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B591-0F4C-4628-ABD1-05AB72C2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010A-0D5D-4475-8C1C-2396324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2812-4FC9-4346-B3AA-2E8840B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3F3A-D7E8-427F-9DC4-F8C7E1C1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9B1D-4B72-4DFD-87D6-08B60D69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FFA3-A0D6-418F-89F4-E063760D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2252-BF9F-4C82-A071-2BEC311D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A19-71E0-42A5-9969-45ABE30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AED-7F2F-4F91-A2E1-5696D64C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BF4-EBFD-4F0D-9D68-354A9F06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E8E-1F68-4D23-B979-E36001F8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9EC-491F-42F8-BD28-D6AA5F9F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F0D-9F57-4AC5-BAE2-5D324606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AEF-EEEC-4A8A-8EC7-627B8EC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EC6-44AE-4D31-A774-EBB2C4A55B65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D331-9F76-41FD-9EDF-4D71F6EA9B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9B52-CDC3-49C0-B6D5-FF03766822C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338-ADBF-4E26-BDEB-A82B331362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ferinternet.at/themen/cyber-mobbing/" TargetMode="External"/><Relationship Id="rId2" Type="http://schemas.openxmlformats.org/officeDocument/2006/relationships/hyperlink" Target="http://de.wikipedia.org/wiki/Cyber-Mobbing" TargetMode="External"/><Relationship Id="rId3" Type="http://schemas.openxmlformats.org/officeDocument/2006/relationships/hyperlink" Target="http://kidsweb.at/more-help/stark-im-netz/cyber-mobbing.html" TargetMode="External"/><Relationship Id="rId4" Type="http://schemas.openxmlformats.org/officeDocument/2006/relationships/image" Target="../media/image1.jpeg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YBER MOBBIN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STELLT V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LOS LAZAREV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S IST CYBER MOBBING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de-DE" sz="3200" spc="-1" strike="noStrike">
                <a:solidFill>
                  <a:srgbClr val="ffffff"/>
                </a:solidFill>
                <a:latin typeface="Verdana"/>
              </a:rPr>
              <a:t>Cyber-Mobbing ist das absichtliche Beleidigen, Bedrohen, Bloßstellen oder Belästigen von Personen im Internet oder mit dem Handy – meist über einen längeren Zeitraum.</a:t>
            </a: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2E4-7C3F-49BC-B4ED-802E9E1374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9AD5B-FB3E-4BF0-AEDA-116FD208DA0D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IE SCHÜTZT MAN SICH DAVO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. Bleib ruhig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. Sperre die, die dich belästige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. Antworte nicht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. Sichere Beweis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5. Rede darüb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6. Melde Problem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. Unterstütze Opfer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8. Schütze deine Privatsphär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9. Kenne deine Rechte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0. Vertraue dir!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B9D-152E-409D-87C2-D83C6BD369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A1B70-B61E-4C75-8C51-2BEA9E7F289B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BBING-ART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n der Schu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Am Arbeitsplatz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Sportvere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Altershei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Gefängn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I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A33-1450-4CFB-B963-02117B98E9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EA3CE-34B7-4562-8FDC-E5F70861DC4E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ybermobbing: 13-Jähriger beging Selbstmord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n Fall von Cybermobbing hat in Kärnten im Jahr 2010 zum Freitod eines 13-Jährigen geführt. Der Schüler war via Internet als homosexuell bezeichnet worden. Seine Mutter warnt nun vor den Gefahren der Belästigung über das Interne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711-D6E6-4C6D-A4D8-CCFAB7C744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4444C-B237-4B39-ADCB-6D1448F3CA99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1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IER KÖNNT IHR MEHR ZU DIESEM THEMA ERFAHRE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hemen - Cyber-Mobbing : Saferinternet.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Cyber-Mobbing – Wikip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Kidsweb: Cyber Mobb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71680" y="2441520"/>
            <a:ext cx="3390840" cy="253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los Lazarev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FC5-6279-4175-B7A2-1A9B5DB49A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5DF0D-8737-4525-8972-4DC62B6369EF}" type="datetime1">
              <a:rPr lang="en-US"/>
              <a:t>07/29/26</a:t>
            </a:fld>
          </a:p>
        </p:txBody>
      </p:sp>
    </p:spTree>
  </p:cSld>
  <p:transition spd="slow">
    <p:newsflash/>
    <p:sndAc>
      <p:stSnd>
        <p:snd r:embed="rId5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015</cp:lastModifiedBy>
  <dcterms:modified xsi:type="dcterms:W3CDTF">2011-02-21T12:31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